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</p:sldIdLst>
  <p:sldSz cx="9907588" cy="6858000"/>
  <p:notesSz cx="6858000" cy="9144000"/>
  <p:custShowLst>
    <p:custShow name="Custom Show 1" id="0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67AC-A405-4FB7-9251-75B74ABDAC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ED23-B8D8-4D1A-96F0-5A36567F21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108F-C7E2-4B61-AF32-C3BF2A3D3A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94DA-E0EE-44B4-9100-FE160A178D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F94F-A480-4608-A4CD-8DD20351D7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6149-2F1F-409A-A5B9-4190C5BF41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33F5-742F-4EBA-A456-E04D7657C8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64DC-608B-480E-B55E-875F3F42D0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5C15-F9B2-4988-9567-9B25BCAE19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7917-BE5D-4D3C-A3A3-C69737FC20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A4AA-A769-40C9-A46B-1B1D9EDFE7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8DCA-FCB4-4C84-8F01-C163052D48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9CC8-4323-4D4E-812F-3C503352AF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38D0-23FD-40A2-A4A7-64F39941E4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56D7-F7F9-47FC-825B-4FAC1732C6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A2B6-2424-4E16-94F8-392AF5A24E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C2FA-6254-45B6-BF93-25E09A7D8F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6F5F-78E7-44CC-8A49-4BC274E7B5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0F68-86A3-4240-8BC2-FB4A2EBAEA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A310-DAED-44C2-BF06-0E2FFAFF11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7C39-980A-422D-914C-EEE4FF96BA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99AC-EFAE-4D87-802D-24BBFC672F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61E3-378F-4D02-B07D-3DFE355A2E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90BA-D85D-4C42-A059-C456E6FDA2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3E8C-C268-4E4A-B415-4AA35AAE10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79AA-B3D8-4AC1-8F97-9476D71561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1CC6-AC21-43AE-A169-BA883D57FF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B55E-1D3D-43CB-A0D8-BA8A4B585C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3935-CDA4-493B-953A-279BD36BAE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C2B5-3C26-4120-9863-6BE83015D0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F859-E763-4B24-A139-37D26BBD77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BEFB-72CC-4D64-AB86-831056BF9D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DB05-D1F0-4C2B-82CE-987EEB0327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46EB-5A0A-4AE5-9C8D-6160E48753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4180-2A3A-4671-A823-3B4FB10D7D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3B20-5666-4DAC-92CA-321032D49F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E691-17B5-4A75-BCC4-DC2FB70A1E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1E97-8ED2-47DE-9F4C-0EB015D9A2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9AD9-D512-4FC5-9461-6CE6CBF11E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8C47-2B38-45C7-868D-5F95C173D2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1CAE-AA1F-47A1-9E42-D64F595D71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3630-D9DA-49AE-BDBC-3292A78899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AC7D-96F5-4E5E-83CD-7C8AC439CF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F6BC-2951-4A83-9C0E-36D925D667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AB08-7AEC-4D45-A471-615658AB57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4127-203D-4F89-9619-4E11F645C5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A610-143B-4465-83C6-E0A6D81ADD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5EEA-CB20-4B60-AE78-A7A32EE5DF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52A6-352B-436B-B1BD-C005F4F872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2179-EBFA-48EE-9C44-711052B139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836D-E4BE-473A-A089-F13FF06F2F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2B04-9210-4101-AA6D-04F6931352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3C7D-43DB-4FAD-AF0D-A1A9BCDB00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D7C1-D096-4D94-A6B4-9FF06A2B85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6C08-5E47-42A5-BD7A-19B70735D6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0324-8A27-4492-810B-2BA0C7370B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7262-281E-47CB-9C81-8851E39A5C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49BB-0ED2-4356-B8F2-8D090FE1AD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DEE4-313A-4308-B8ED-6B68295F3A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254F-41C7-4677-A379-0559463C4B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6A7E-800B-4754-92CC-99E42D8F23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D4E3-1904-4882-BC12-89B0611C09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7717-4AF5-4B77-97EE-1C60BE141C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DAF2-E17D-4060-82AF-E6B7D57469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BAF3-163B-4968-B915-E7F9691DF6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7B41-955F-4CD2-A7BA-28A7B0A59C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482D-37BE-4BFF-872B-207ADF7266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F031-1687-48D1-93BC-FB396769AE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A1D0-93D9-420A-B89A-AE8AD9166F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A103-8B2C-4EA6-AD18-D74B5BD51A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9F18-B7A1-49F1-84CB-7EF344CBA4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0ED1-41D6-4C60-AFAA-65E9F07388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707D-C165-46C4-8A10-AC936D438E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A300-0EFE-448D-BCC0-5BDC8CE962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64BC-C9E0-4729-B65D-A015CE7E73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F8AB-856D-418A-8ABA-3B424324E2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64AA-3D2E-41A5-A6B1-DA2CDAEB6E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7826-3605-4351-9E77-7A7579C651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8FC9-47F2-4D86-AF3B-35694DE112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62E6-043A-4052-B245-5BB03B830F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03BF-4B2B-4CFC-99CA-9EED0EA0F6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BDB3-D0D9-4120-AA05-FE24564038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54EE-F393-4410-A257-AD61A9731B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B8A5-40E1-44A1-AAAC-B953888651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9185-987C-4FEF-A194-057880EFBB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4197-786D-49F1-97A0-C71E6EEA5E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F032-8565-44AB-8DF8-6C831E80DC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F910-C80D-4002-9DFA-65C12A0E31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7FDB-2994-4C85-8582-D927171645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0E80-F62A-46EF-A3D4-0585F5802F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CD1B-7E3E-48AA-8A96-BECF56EDF3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B4DB-02C8-4BA2-9F18-91BF0D5A8E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365D-2F0A-42F2-9654-77CA51A16F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37F2-1A5B-429E-A882-F367A660DA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BA9C-7354-4F03-9C65-D165EA4F29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7CC9-246D-4BF1-B6D8-21D4F36F4C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3C4A-F8E5-43B7-A662-4D5ED82674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4898-4232-4EFB-BA50-E3577BB8D3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BB62-5EFD-4124-9337-EE66DE0D2D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4C98-23A0-4B60-9B9A-5657A2D154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54F0-45C3-44F7-A983-37B4525486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2D5B-457B-40BA-AF7D-E7864BF7DD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01A7-57C7-457F-BF57-EFA294032F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0347-DBD5-4DD2-A247-FD41B5B7DE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7E04-C0F3-4926-8EF3-2959F068FA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96E9-4263-4ACC-A7EB-5231D27334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902E-B56C-43E7-B54D-C743565814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D416-B2C9-49DA-9351-966EF3D553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A6A7-3CE8-4609-94CE-A208AD5F81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3777-C07E-4346-9ED5-4C7847CBA6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58FA-404A-427E-8B1E-42C75DDE95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2AA5-0F01-410A-BE68-F2B6D82B7A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CDA0-DF07-47C9-9018-CC348BE43B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1A57-66EC-495B-A92E-D97CCFB45B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F157-227E-4367-B994-2FBB3E6740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444B-105F-4798-A31E-232C4FB8B2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6AD8-2BFB-45C5-9A90-72C1442997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FC7D-9FEA-4D3E-815B-77BB36D9C0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9C77-DAA5-488A-8757-21D340D7FB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A8DF-4BE9-4E99-A087-706A8664E6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876B-E6DA-4F6F-816C-6F0BE772C7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1997-3482-43C4-A23C-99BD4ADEB6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7976-BA8D-465A-AA20-C532B7F583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3C7A-1EB9-4662-9ACD-B5CBC41EC5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92BF-8FF6-488D-B12A-A894AD3198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E618-04EA-49D9-8E47-C4D2FEC784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846C-4903-4109-8908-FEFE63A18F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CDED-7FE4-46AF-9555-ED4B5BFF82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31CD-4B1A-49F6-B19E-CCF20044EB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412F-F44F-464C-8F16-FB86B4B66A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F659-96B6-4D12-9164-8F9E5D99B1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D769-032B-4E80-85DD-F626DA3D09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191F-3133-4E99-9785-BE08AD3322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76C5-92C1-423B-B5AE-B8BDB8821C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94F7-2D8F-492E-8998-0616B2F573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B3BC-C9F5-4090-8115-33D9BF584A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1CC7-5980-4494-9FA5-DF473324B7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D8B5-81FD-4050-84AA-6A5BAEC34A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49FE-E2B3-4A59-AD07-A93257BB6B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D402-EC97-4849-B9AC-B1D951B6C1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3E01-32D2-4E41-8750-E53F8BBE0A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C7B7-6001-4AF9-8158-5A94036D1E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54D9-2F8E-4C8B-B277-C98EA6736B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F9DE-E5C6-47D3-B02B-E3E14335E8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5528-860C-4970-BBB0-63CEE1D59B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1CA0-275B-41F5-8073-9AF703A0D9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109D-33DE-4E87-AF00-6B6740E6C0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0C06-1998-42C4-8D35-34CF70F40E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D448-C6F6-421D-99B1-97AB569494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348F-4827-420E-97A4-8262183EF7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15FE-6599-4562-8F8E-D525C9688D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986C-0FA8-4FAE-8920-DF5D8DB4A6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DCBC-DEBA-4773-ACF9-560CA8FC0A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2F30-8D7F-4116-8499-C5B0D4E717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A09E-2BAA-4FFD-AFD4-7E2C4F57E6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ECEC-42CE-4669-87DF-E11C608BB2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6E77-4756-4380-982A-23B3964939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083B-E828-4AB2-AC25-34DD0AAADF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D0CC-04CE-4861-AA9E-FDD68481C7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CCB3-0562-4CEF-A8C2-7DE95943BB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9750-3D71-4281-8527-53256E5997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D556-D5D5-48EB-B1C4-917FD41D47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0802-B616-459F-8ABE-F74FF29D00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4B27-3CE8-4413-B8BB-B54566AC83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2B1C-A4C6-4B56-B65C-C3BDF67E05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1B14-2AD8-4F75-A176-A82491376C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A0CB-A995-4F2F-B507-D5F7FB3871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ACA56-070A-4E3B-9A9E-F60E66D579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02EA2-D5BD-473D-9D27-CA9537F3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D5DF9-E0C8-47EB-AC6D-733E610F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7BEEE-889C-4559-B583-897EA67E69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86BD-3108-41B0-AD45-7554C56A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56B6F-6901-4836-A048-C48A80C4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6ED0A-B568-42A3-B7C6-10D6A1C9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DE3D6-1699-425D-876E-192323EA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2520" y="7957800"/>
            <a:ext cx="94107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D4147-3756-42B5-B8D1-9F7003F3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A9A1A-4BD9-4410-BE06-7DEA937C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0C829-8008-45E2-B545-18835288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81267-04F3-457E-A98E-8E920FA2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9DBE-9ED3-4FFF-8B3D-00225E8C2E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896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2" descr="komail banner"/>
          <p:cNvPicPr/>
          <p:nvPr/>
        </p:nvPicPr>
        <p:blipFill>
          <a:blip r:embed="rId3"/>
          <a:stretch/>
        </p:blipFill>
        <p:spPr>
          <a:xfrm>
            <a:off x="0" y="6194520"/>
            <a:ext cx="9906120" cy="76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madinah.jpg"/>
          <p:cNvPicPr/>
          <p:nvPr/>
        </p:nvPicPr>
        <p:blipFill>
          <a:blip r:embed="rId1"/>
          <a:stretch/>
        </p:blipFill>
        <p:spPr>
          <a:xfrm>
            <a:off x="0" y="-44280"/>
            <a:ext cx="9906120" cy="7000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2998800" y="262080"/>
            <a:ext cx="36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ی کمیل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èAØáw ëÄâ¾ áÉC¾ånF åVÜáÆ ØãXéÂB áÀãMCÇåsGãQ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نامهاى مقد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ساس هر موجودى را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000099"/>
                </a:solidFill>
                <a:latin typeface="Karbala"/>
              </a:rPr>
              <a:t>,áÌ×ã¶ãnC¯ÂB ãÁCÆD áUáÖC²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نتهاى آرمان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رفان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áÌ×ã\å×ã³áXåtâÇÂB ZC×ã² CÖ</a:t>
            </a:r>
            <a:br>
              <a:rPr sz="7200"/>
            </a:br>
            <a:br>
              <a:rPr sz="7200"/>
            </a:br>
            <a:br>
              <a:rPr sz="4000"/>
            </a:br>
            <a:r>
              <a:rPr b="0" lang="fa-IR" sz="72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fa-IR" sz="4500" spc="-1" strike="noStrike">
                <a:solidFill>
                  <a:srgbClr val="000000"/>
                </a:solidFill>
                <a:latin typeface="Karbala"/>
                <a:cs typeface="Arial"/>
              </a:rPr>
              <a:t>ای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يادرس درماندگان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áÑ ,áÌ×ãºãjCé|ÂB ãPÒâÃâº áSå×ãRác CÖ</a:t>
            </a: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br>
              <a:rPr sz="7200"/>
            </a:br>
            <a:br>
              <a:rPr sz="4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حبوب دل راستگوي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áÌ×ãÇáÂC¯ÂB áÐÂH CÖ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1" lang="fa-IR" sz="4500" spc="-1" strike="noStrike">
                <a:solidFill>
                  <a:srgbClr val="000000"/>
                </a:solidFill>
                <a:latin typeface="Karbala"/>
                <a:cs typeface="Arial"/>
              </a:rPr>
              <a:t>ای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يران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نده عالميان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176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½ãkåÇádãQ áÑ ØãÏÂH CÖ áÀáÊCdåRâs á½BoâXá¶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CÏå×ã¶ áÌã`âs èÈãÃåtâÆ èk~åRá® áVåÒá{ CÏå×ã¶ â°áÇåt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ا براستى چنان مى بينى اى منزه و معبود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ستايشت مشغول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شنوى در آن آتش صداى بنده مسلم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اث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7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ãÐãXá×ã|å¯áÇãQ CÏãQBmá® áÈå¯á¦ á¹Bl áÑ ,ãÐãXá·áÂChâÇã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 ,ãÐãWáoåÖãoá_ áÑ ãÐãÆåoâ`ãQ CÏãºCRå¦F áÌå×áQ áuãRâc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0" lang="fa-IR" sz="5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ت دوزخ به واسطه جرم و جنايت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فتار شده</a:t>
            </a:r>
            <a:r>
              <a:rPr b="1" lang="fa-IR" sz="5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لفتش در آنجا زندانى شده و مزه عذاب آتش را به خاطر نافرمانيش چشيده و در ميان</a:t>
            </a:r>
            <a:r>
              <a:rPr b="0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6200" y="-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áÑ ,áÀãXáÇåcáoãÂ èÄëÆáKâÆ áaå×ã`á¢ áÀå×áÂH êaã£áÖ áÒâÎ</a:t>
            </a:r>
            <a:br>
              <a:rPr sz="5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á½ãk×ãcåÒáW  ãÄåÎF ãÉCtãÃãQ áÀåÖãjCËâÖ</a:t>
            </a:r>
            <a:br>
              <a:rPr sz="5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 ,áÀãXé×ãQÒâQâoãQ áÀå×áÂH</a:t>
            </a:r>
            <a:r>
              <a:rPr b="0" lang="en-GB" sz="55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âÄésáÒáXáÖ áÑ</a:t>
            </a:r>
            <a:br>
              <a:rPr sz="5500"/>
            </a:br>
            <a:br>
              <a:rPr sz="5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آن حال به درگاهت شيو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 شيون شخص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رزومند رحمت تو است و به زبان يگانه پرستان تو را فرياد زند و به بنده پروريت متوسل گ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Î áÑ ãPBmá¯ÂB Øã¶ Ô»åRáÖ á¸å×á¿á¶ áÕÙåÒáÆ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ÇåÃãc åÌãÆ á¸áÃás CÆ Òâ_åoáÖ</a:t>
            </a:r>
            <a:br>
              <a:rPr sz="6000"/>
            </a:br>
            <a:br>
              <a:rPr sz="60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ولاى م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چگونه در عذاب بماند با اينكه ب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دبارى سابقه دارت چشم اميد دار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9320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áÀáÃå£á¶ âÄâÆGÖ áÒâÎ áÑ ânCéËÂB âÐâÇãÂåKâW á¸å×á¾ åÅF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او را بيازارد با</a:t>
            </a:r>
            <a:br>
              <a:rPr sz="4200"/>
            </a:br>
            <a:r>
              <a:rPr b="1" lang="ar-S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كه آرزوى فضل و</a:t>
            </a:r>
            <a:br>
              <a:rPr sz="40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484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ÊF áÑ CáÏâRå×ãÏáÂ âÐâºãoådâÖ á¸å×á¾ åÅF ,áÀáXáÇåcán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¾ åÅF ,âÐáÊC¿áÆ ÓoáW áÑ âÐáWåÒá{ â°áÇåt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حمت تو را دارد يا چگونه شعله آتش او را بسوزا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ينكه تو صدايش را بشنوى و جايش را ببينى يا چگون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AØáw ëÄâ¿ãQ á¦CcF  Õãm~~~~é~ÂB áÀãÇåÃã¯ãQ áÑ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آن علم و دانش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حاطه يافت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00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ÅF ,âÐá·å¯á¢ âÈáÃå¯áW áYåÊF áÑ CÎâo×ã¶áp ãÐå×áÃá® âÄãÇáXåxáÖ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áÃå¯áW áYåÊF áÑ CÏãºCRå¦F áÌå×áQ âÄá»åÃá»áXáÖ á¸å×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¾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ره هاى آتش او را دربرگير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ينك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توانيش د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در ميان طبق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دست و پا زند با اينك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9410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Î áÑ CÏâXá×ãÊCQáp âÍâoâ_åqáW á¸å×á¾ åÅF ,âÐáºåkã{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ÍéQán CÖ áÀÖãjCËâÖ</a:t>
            </a:r>
            <a:br>
              <a:rPr sz="6000"/>
            </a:br>
            <a:br>
              <a:rPr sz="2900"/>
            </a:br>
            <a:br>
              <a:rPr sz="2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صدق و راستگوئيش را دانى ي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گون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ن دوزخ او را با تندى برانند با اينك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به پروردگارى بخوان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Ðá¾âoåXáXá¶ CÏåËãÆ ãÐã»åXã® Øã¶ áÀáÃå£á¶ Òâ_åoáÖ á¸å×á¾ åÅ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CÏå×ã¶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ممكن 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يد فضل تو را در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زادى خويش داشته باش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µÑâoå¯áÇÂB Ù áÑ ,áÀãQ âÌé~«ÂB áÀãÂl CÆ áVCÏå×áÎ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لى تو او را به حال خود واگذارى چ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يار از تو دور ا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ãQ áYå~ÃáÆC® CÇãÂ äÐãRåxâÆ Ù áÑ ,áÀãÃå£á¶ åÌãÆ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áÀãÊCtåcH áÑ á½éoãQ åÌãÆ áÌÖãkëcáÒâÇÂB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نين گمانى به تو نيست 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ضل تو اينسان معروف نيست و نه شباهت با رفتار تو نسبت به يگانه پرستان دارد با آن نيكى و احسان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252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ãÐãQ áYåÇá¿ác CÆ ÙåÒáÂ â°á§åºF ãÌ×ã»á×ÂCãRá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سبت بدانها دارى و من بطور قطع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دان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گر فرمان ت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jÚågH åÌãÆ ãÐãQ áYå×á£áº áÑ ,áÀÖãkãcC_ ãSÖãmå¯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معذب ساختن منكرانت صادر نشده بود و حك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و به هميشه ماندن در عذاب براى دشمنانت در کار نبود</a:t>
            </a:r>
            <a:r>
              <a:rPr b="0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æBjåoáQ CÏáÃâ¾ ánCéËÂB áYå~Ãá¯á`áÂ ,áÀÖãkãÊC¯â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تماً آتش دوزخ را هر چه بود به تمامى سرد 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áÑ æBéoá»áÆ CÏ×ã¶ èkácÛ áÉC¾ CÆ áÑ ,æCÆÚás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لم م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چكس در آن منز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ÉF áYåÇátåºF á½âJCÇåsF åYáséká»áW áÀéËã¿Â ,æCÆC»â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ا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ء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 نداشت ولى تو اى خد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مام نامهاي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دس است سوگند يا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وزخ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AØáw êÄâ¾ âÐáÂ áAC¢F ÕãméÂB áÀãÏå_áÑ ãnÒâËãQ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نور ذا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روشن شد در پرتوش هر چي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rCéËÂB áÑ ãUéËã`ÂB áÌãÆ áÌÖãoã¶C¿ÂB áÌãÆ CÎÜåÇáW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ÌÖãkãÊC¯âÇÂB CÏ×ã¶ ákëÃáhâW åÉF áÑ  ,áÌ×ã¯áÇå_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از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فران از پريان و آدميان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شمنانت را براى هميشه در آن جا دهى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ÂéÒá§áW áÑ æCMãkáXåRâÆ áYåÃâº á½âJCËá[ éÄá_ áYåÊF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د ثنايت برجسته است د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بتداء بدون سابقه فرم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Çá¾ æCËãÆåKâÆ áÉC¾ åÌáÇá¶F ,æCÆëoá¿áXâÆ ãÅC¯åÊßCã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ÉÑâÒáXåtáÖ Ù æC»ãsC¶ áÉC¾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اين انعام از روى بزرگوارى تفضل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فرمود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(آي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ه مؤمن است مان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ى است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ه فاسق است ؟ نه يكسان نيست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XäÂB ãTánåkâ»åÂCãQ áÀâÂGåsG¶ Õãkë×ás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CÏáWånékáº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،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بحق آن نيروي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áÑ CÏáXåÇáXác ØãXäÂB ãUé×ã£á»ÂCãQ áÑ</a:t>
            </a:r>
            <a:br>
              <a:rPr sz="7200"/>
            </a:br>
            <a:br>
              <a:rPr sz="72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قدر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 به فرم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سلم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2520" y="20448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ÉF ,CÏáXåÖáoå_F ãÐå×áÃá® åÌáÆ áYåRáÃá² áÑ ,CÏáXåÇá¿ác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ã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Uá®CätÂB ãÍãmÎ Øã¶ áÑ ãÐáÃå×äÃÂB ãÍãmÎ Øã¶ ØãÂ áSáÏ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ادر فرم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ر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 آن را اجرا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مسلط گشتى از تو مى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بخشى بر من در اين شب و در اي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ع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âÐâXåRáÊålF èSåÊál éÄâ¾ áÑ ,âÐâXåÆáoå_F èÅåoâ_ éÄâ¾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جرم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رتكب شده ام و ه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ناه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سرزد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0160" y="259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âXåÃãÇá® èÄåÏá_ éÄâ¾ áÑ ,âÐâWånáoåsF èeå×ãRáº  éÄâ¾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زشت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نه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م و ه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د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Äâ¾ áÑ ,âÐâWåoáÏå~ªF åÑF âÐâXå×á·ågF âÐâXåËáÃå®F åÑF âÐâXåÇáXá¾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×ãRãWC¿ÂB áÅBáoã¿ÂB CÏãWCRå[IãQ áVåoáÆF èUáNë×ás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و چه آشكار چه پنه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در عيان و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بد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نويسندگا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امي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ستور يادداش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نش را داد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ØëËãÆ âÉÒâ¿áÖ CÆ ã«å·ãdãQ åÈâÏáXåÃé¾áÑ áÌÖãmäÂB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YåËâ¾ áÑ ,ØãcãnBÒá_ á°áÆ éØáÃá® æBjÒâÏâw åÈâÏáXåÃá¯á_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ان نويسندگ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نها را م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 بر ثبت اعمال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 آنها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ضميمه اعضاء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ارحم گواه بر م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000099"/>
                </a:solidFill>
                <a:latin typeface="Karbala"/>
              </a:rPr>
              <a:t>,ârÑêkâº CÖ ânÒâÊ CÖ</a:t>
            </a:r>
            <a:br>
              <a:rPr sz="7000"/>
            </a:br>
            <a:br>
              <a:rPr sz="7200"/>
            </a:br>
            <a:r>
              <a:rPr b="1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نور حقيقى و اى منزه از هر ع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520" y="20448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kãÎCéxÂB áÑ ,åÈãÏãMBnáÑ åÌãÆ éØáÃá® áSå×ãºäoÂB áYåÊ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åÈâÏåËá® áØã·ág CÇãÂ</a:t>
            </a:r>
            <a:br>
              <a:rPr sz="6000"/>
            </a:br>
            <a:br>
              <a:rPr sz="6000"/>
            </a:br>
            <a:br>
              <a:rPr sz="2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ضاف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آنها خودت نيز مراقب من بودى و</a:t>
            </a:r>
            <a:r>
              <a:rPr b="1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واه اعمالى بود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ايشان پنهان مى مان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WåoáXás áÀãÃå£á·ãQ áÑ ,âÐáXå×á·ågF áÀãXáÇåcáo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لبته به واسطه رحمتت بو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نها را پنهان داش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ز روى فضل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وشان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ÑF ,âÐáXåÂáqåÊF èoå×ág ëÄâ¾  åÌãÆ Øë«ác áoë¶áÒâW åÉF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يز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ره ام را وافر و سرشار گردان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هر خير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فرو ريز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¹åpãn åÑF ,âÐáWåoáxáÊ èäoãQ åÑF ,âÐáXåÃé£á¶ èÉCtåcH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احس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فرمائى يا نيكيهايى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خ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يا رزق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ÍâoâXåtáW èI§ág åÑF ,âÍâoã·å³áW  èSåÊál åÑF ,âÐáXå§átá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گسترانى يا گناه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يامرزى يا خط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پوشانى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</a:t>
            </a: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ëPán CÖ ëPán CÖ ëPán CÖ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 پروردگارا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</a:t>
            </a:r>
            <a:br>
              <a:rPr sz="4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ÕÙåÒáÆ áÑ Õãkë×ás áÑ ØãÏÂH CÖ 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ãÍãká×ãQ åÌáÆ CÖ ,Øëºãn áÀãÂCÆ áÑ</a:t>
            </a:r>
            <a:r>
              <a:rPr b="0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6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اى آقا و مولايم و اى مالك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ختيارم بدس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,ØãXáËá¿åtáÆ áÑ Õëoâ£ãQ æCÇ×ãÃá® CÖ ,ØãXá×ã{CÊ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áºC¶ áÑ Õãoå»á·ãQ æBoå×ãRág</a:t>
            </a:r>
            <a:br>
              <a:rPr sz="6000"/>
            </a:br>
            <a:br>
              <a:rPr sz="60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داناى بر پريشانى و بى نوائي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گه از بى چيزى و ندار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ëPán CÖ ëPán CÖ ëPán CÖ</a:t>
            </a:r>
            <a:br>
              <a:rPr sz="7200"/>
            </a:b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، پروردگارا پروردگارا</a:t>
            </a: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Èá«å®F áÑ ,áÀãsåkâº áÑ áÀë»ádãQ áÀâÂGåsF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ÌãÆ ØãWCºåÑF áÄá¯å`áW åÉF ,áÀãMCÇåsF áÑ áÀãWC·ã{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تو مى خواهم به حق خودت و به ذات مقدست و به بزرگترين صفا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سمائ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وقاتم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CÖ áÑ ,áÌ~~~×ãÂéÑÛB áÁéÑF CÖ</a:t>
            </a:r>
            <a:br>
              <a:rPr sz="66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.áÌ~ÖoãgÝB áoãgD</a:t>
            </a: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غاز موجودات اولين و اى پايان آخرين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XáÆåkãhãQ áÑ ,æTánÒâÇå¯áÆ á½ãoå¾ãmãQ ãnCÏéËÂB áÑ ãÄå×äÃÂB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äXác ,æUáÂÒâRå»áÆ á½ákåËã® ØãÂCÇå®F áÑ ,æUáÂÒâ{åÒá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شب و روز به ياد خودت معمور و آباد گرد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خدمتت پيوسته دارى و اعمالم را مقبول درگاهت گردا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æBjånãÑ CÏêÃâ¾ ÕãjBnåÑF áÑ ØãÂCÇå®F áÉÒâ¿áW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 ,æBkáÆåoás áÀãXáÆåkãg Øã¶ ØãÂCác áÑ ,æBkãcBÑ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 اعمال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گفتارم همه يك جهت براى تو باشد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الم هميشه در خدمت تو مصروف گ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å×áÂH åÌáÆ CÖ ,ØãÂéÒá¯âÆ ãÐå×áÃá® åÌáÆ CÖ Õãkë×ás CÖ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BÒåcF âVåÒá¿áw </a:t>
            </a: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كيه گاهم او اس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شكايت احوال خويش به درگاه او ب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ëPán CÖ ëPán CÖ ëPán CÖ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 پروردگارا پروردگارا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Ãá® åjâkåwB áÑ ,ØãcãnBÒá_ áÀãXáÆåkãg ÔÃá® ëÒáº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رو ده بر انجام خدمتت اعضاى مرا و دلم را برا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¶ ékã`ÂB áØãÂ åSáÎ áÑ ,ØãdãÊBÒá_ ãUáÇÖãqá¯ÂB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XáÆåkãhãQ ãÁC|ëWßB Øã¶ áÅBÑékÂB áÑ ,áÀãXá×åxág</a:t>
            </a:r>
            <a:br>
              <a:rPr sz="6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زيمت به سويت محكم گردان و به م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شش در ترس و خشيتت و مداومت در پيوستن به خدمتت عطا فر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áÑ ,áÌå×ã»ãQCétÂB ãÌåÖãjC×áÆ Øã¶ áÀå×áÂH ábáoåsF ÔäXác</a:t>
            </a:r>
            <a:br>
              <a:rPr sz="54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ÔÂH á¹CXåwF áÑ ,áÌåÖãnãjCRâÇÂB Øã¶ áÀå×áÂH áoåsâF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 تن و جان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ميدانهاى پيشتازان بسويت برانم و در زمره شتابندگان بسويت بشتابم و در صف مشتاق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ÒâÊâj áÀåËãÆ áÒâÊåjF áÑ ,áÌå×ãºCáXåxâÇÂB Øã¶ áÀãQåoâº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å×ãËãºåÒâÇÂB áUá¶CháÆ áÀá¶CágF áÑ ,áÌå×ã|ãÃåhâÇÂB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بت را جويم و چون نزديك شدن مخلصان ب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زديك گردم و چون يقين آ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گان از تو بترس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36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å×ãËãÆKâÇÂB á°áÆ á½ãnBÒã_ Øã¶ á°ãÇáXå_F áÑ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جوار رحمتت با مؤمنان در يكجا گرد آ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Æ áÑ ,âÍåjãnGá¶ èAÒâtãQ ØãÊájBnF åÌáÆ áÑ éÈâÏäÃÂB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ã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Ì~~á~tåcF åÌãÆ ØãËåÃá¯å_B áÑ ,âÍåk~ã~¿á¶ ØãÊájC~~~~¾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 مرا خواه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ش را بخواه و هر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من مك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ن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 به مكر خويش دچار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âÀ~~~~ã~XåÏáW ØãXéÂB áPÒâÊêmÂB áØãÂ åoã·å²H éÈâÏäÃÂB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áÈá|ã¯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رده ها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ر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UáÂãqåËáÆ åÈãÏãQáoåºF  áÑ ,á½ákåËã® æCRå×~ã~|áÊ á½ãkå×ãRá®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CËâÖ Ù âÐéÊI~á¶ ,áÀåÖákáÂ æUá·åÂâp åÈãÏë|ágF áÑ ,áÀåËãÆ</a:t>
            </a:r>
            <a:br>
              <a:rPr sz="6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صيبم را پيش خود بهتر از ديگر بندگانت قرار د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نزلتم را نزد خود نزديكتر از ايش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رتبه ام را در پيشگاهت مخصوص تر از ديگران گرد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½ãjÒâ`ãQ ØãÂ åkâ_ áÑ ,áÀãÃå£á·ãQ éÙH áÀãÂl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Ëå~«á·åcB áÑ ,á½ãkå`áÇãQ éØáÃá® å¸ã§å®B</a:t>
            </a:r>
            <a:br>
              <a:rPr sz="6000"/>
            </a:br>
            <a:br>
              <a:rPr sz="6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است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 به فضل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به اين مقام نرس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ود و بخشش خود به من جو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ب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د و بزرگوارى خود بر من توج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7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C`ãÏáÂ á½ãoå¾ãmãQ ØãÊCtãÂ åÄá¯å_B áÑ ,áÀãXáÇåcáoã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ÌåtâdãQ éØáÃá® éÌâÆ áÑ ,æCÇé×áXâÆ áÀëRâdãQ ØãRåÃáº áÑ</a:t>
            </a:r>
            <a:br>
              <a:rPr sz="60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رحمت خود مرا نگهدار و قرار ده زبان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به 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ت گويا و دلم را به دوستيت بى قرا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يدا و با اجاب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كت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من منت بن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éÂáp åoã·å²H áÑ ,ØãWáoå\á® ØãËåÃãºF áÑ ,áÀãXáQC_H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 ,áÀãWájCRã¯ãQ á½ãjCRã® ÔÃá® áYå×á£áº áÀéÊI~á¶</a:t>
            </a:r>
            <a:br>
              <a:rPr sz="60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لغزشم را ناديده گير و گناهم را بيامرز زي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و خود بندگانت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پرستش خويش فرمان دا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UáQC_ßB âÈâÏáÂ áYåËãÇá¢ áÑ ,áÀãMC®âkãQ åÈâÏáWåoáÆ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دع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ن به درگاهت ماءمور ساخ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جابت دعايشان را ضمان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áÀå×áÂH áÑ ,ØãÏå_áÑ âYåRá|áÊ ëPán CÖ áÀå×áÂI~á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ى پروردگار من به سوى تو رو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خود بداشتم و به درگاه ت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Â åSã`áXåsB áÀãWéqã¯ãRá¶ ,ÕãkáÖ âVåjákáÆ ëPán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م دست حاجت دراز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پس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عزت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يم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å°á§å»áW Ù áÑ ,áÕCËâÆ ØãËå³ëÃáQ áÑ ,ØãMC®âj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جاب فرما و به آرزويم برسان و اميدم را</a:t>
            </a:r>
            <a:r>
              <a:rPr b="1" lang="ar-SA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ëÌã`ÂB éoáw ØãËã·å¾B áÑ ,ØãMC_án áÀãÃå£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¶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فضل خويش قطع منما</a:t>
            </a: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ر دشمنانم را از ج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oã·å²H ,C¢ëoÂB á°Öãoás CÖ ,ØãMBkå®F åÌãÆ ãuåÊß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س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ايت فرما اى خد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 سریع از ما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ضی می شوی، بیامرز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48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áÈá»ëËÂB âÁãqåËâW ØãXéÂB áPÒâÊêmÂB áØãÂ åoã·å²H éÈâÏäÃÂB</a:t>
            </a:r>
            <a:br>
              <a:rPr sz="6400"/>
            </a:br>
            <a:br>
              <a:rPr sz="64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عقاب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ها را فرو ريز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1760" y="6048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3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5300" spc="-1" strike="noStrike">
                <a:solidFill>
                  <a:srgbClr val="000099"/>
                </a:solidFill>
                <a:latin typeface="Karbala"/>
              </a:rPr>
              <a:t>âACáxáW CÇãÂ çÁCé¯á¶ áÀéÊIá¶ ,áAC®êkÂB ÙH âÀãÃåÇáÖ Ù åÌáÇãÂ</a:t>
            </a:r>
            <a:br>
              <a:rPr sz="53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 چيزى ندار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استى تو ه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را بخواهى انجام ده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çAC~~·ãw âÍâoå¾ãl áÑ ,çABÑáj âÐâÇåsB åÌáÆ CÖ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امش دوا است و ياد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فاء است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ãÂCáÆ ârFán åÌáÆ åÈácånãB ,æÔáËã² âÐâXá®Cá¦ áÑ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AC¿âRÂB âÐ~âcÚ~ã~s áÑ ,âAC_äoÂB</a:t>
            </a:r>
            <a:br>
              <a:rPr sz="60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اعتش توانگرى است ترحم فرما ب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مايه اش اميد و ساز و برگش گريه و زارى ا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ãÈá»ëËÂB á°ã¶Báj CÖ ,ãÈá¯ëËÂB á´ãQCs CÖ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4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ام دهنده نعمتها و اى برطرف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نده گرفتاري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ÇãÂC® CÖ ,ãÈáÃê~«ÂB Øã¶ áÌå×ãxãcåÒáXåtâÇÂB ánåÒâÊ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روشنى وحشت زدگان در تاريكيه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ى دانا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èkéÇádâÆ ãÁD áÑ èk~~éÇádâÆ ÔÃá® ëÄá{ ,âÈéÃá¯âÖ 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ى معل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ود فرست بر محمد و آل محم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âÐâÃåÎF áY~å~ÊF CÆ ØãQ åÄá¯å¶B áÑ</a:t>
            </a:r>
            <a:br>
              <a:rPr sz="66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نجام ده درباره من آنچه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و شايسته آ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UéÇ~~ã~MÛB áÑ ãÐ~ãÂåÒ~â~sán Ô~Ãá® âÐäÃÂB ÔéÃá{ áÑ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.æBo×ã\~~á~¾ æCÇ×ãÃ~~åtáW áÈéÃ~~~ás áÑ ,ãÐãÃåÎF åÌãÆ Ìå×ãÆC×áÇÂB</a:t>
            </a:r>
            <a:br>
              <a:rPr sz="54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و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 بر پيامبر و پيشوايان با ب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خاندان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لام فرا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Èá¯ëËÂB âoë×á³âW Ø~~~ã~XéÂB áPÒâÊêmÂB áØãÂ åoã·å²H éÈâÏäÃ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عمت ها را تغيير ده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252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AC®êkÂB âuãRådáW ØãXéÂB áPÒâÊêmÂB áØãÂ åoã·å²H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âÏäÃÂB</a:t>
            </a:r>
            <a:br>
              <a:rPr sz="60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اب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 جلوگير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60200" y="188640"/>
            <a:ext cx="990576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AÚáRÂB âÁãqåËâW ØãXéÂB áPÒâÊêmÂB áØãÂ åoã·å²H éÈâÏäÃÂB</a:t>
            </a:r>
            <a:br>
              <a:rPr sz="6000"/>
            </a:br>
            <a:br>
              <a:rPr sz="6600"/>
            </a:br>
            <a:br>
              <a:rPr sz="66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لا نازل آن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ãÈ~~~~~~~~×ãcéoÂB ãÌáÇåcéoÂB ãÐéÃÂB ãÈåtãQ</a:t>
            </a:r>
            <a:br>
              <a:rPr sz="7200"/>
            </a:br>
            <a:br>
              <a:rPr sz="7200"/>
            </a:b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نام خداوند بخشنده مهربان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484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Äâ¾ áÑ ,âÐâXåRáÊålF èSåÊál éÄâ¾ áØãÂ åoã·å²H éÈâÏäÃ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CÏ~~~~â~WG§~ågF èUN×ã§ág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گناه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م و هر خط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سر زد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½ãoå¾ãmãQ áÀ×áÂH âPéoá»áWF ØëÊH éÈâÏäÃÂB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من به سوى تو تقرب جوي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وسيله 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ت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Àãtå·áÊ ÔÂH áÀãQ â°ã·åxáXåsF áÑ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فيع آورم بدرگاهت خودت را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Qåoâº åÌãÆ ØãËá×ãÊåkâW åÉF á½ãjÒâ`ãQ áÀâÂGåsF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ود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ت از تو مى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را به مقا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رب خويش نزديك ساز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1760" y="4932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½áoå¿âw ØËá®ãpÒâW åÉF áÑ</a:t>
            </a:r>
            <a:br>
              <a:rPr sz="6600"/>
            </a:br>
            <a:br>
              <a:rPr sz="3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.á½áoå¾ãl ØËáÇãÏåÃâW åÉF áÑ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پاسگذاريت را بر من روز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خود را به من الها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484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°ã¢Cg áÁBKâs áÀâÂGåsF ØëÊH  éÈâÏäÃÂB</a:t>
            </a:r>
            <a:br>
              <a:rPr sz="6600"/>
            </a:br>
            <a:br>
              <a:rPr sz="2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è°ãwCg</a:t>
            </a:r>
            <a:r>
              <a:rPr b="1" lang="fa-IR" sz="66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ÄëÂámáXâÆ</a:t>
            </a: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از ت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خواست 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درخواس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خص فروتن خوار ترس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ËáÃá¯å`áW áÑ ,ØËáÇácåoáW áÑ ØËádãÆCátâW åÉF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C¯ãÊCº æC×ã¢Bán áÀãÇåtã»ãQ</a:t>
            </a:r>
            <a:br>
              <a:rPr sz="6000"/>
            </a:br>
            <a:br>
              <a:rPr sz="6000"/>
            </a:br>
            <a:br>
              <a:rPr sz="2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من آسان گيرى و به من رح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مرا به آنچ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ايم قسم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ى راضى و قانعم ساز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.æC¯ã¢BÒáXâÆ ãÁBáÒåcÛB ã°×ãÇá_ Ø¶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تمام حالات فروتن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4520" y="1212840"/>
            <a:ext cx="924552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âÐâXáºC¶ åVékáXåwH åÌáÆ áÁBKâs áÀâÂGåsF áÑ éÈâÏäÃÂB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از تو درخو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خو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سخت فقير و بى چيز شده</a:t>
            </a: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80" y="40464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Èâ«á® áÑ âÐáXá_Cc ãkãMBk~~~~~~~éxÂB ákåËã® áÀãQ áÁáqåÊF áÑ 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âÐâXáRå²án  á½ákåËã® CÇ×¶</a:t>
            </a:r>
            <a:br>
              <a:rPr sz="6000"/>
            </a:br>
            <a:br>
              <a:rPr sz="6000"/>
            </a:br>
            <a:br>
              <a:rPr sz="2400"/>
            </a:b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fa-IR" sz="60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خواسته اش را هنگام سختيها پيش تو آورده و اميدش بدانچ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زد تو است بسيار بزرگ اس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åYá¯ãsáÑ ØXéÂB áÀãXáÇåcáoãQ áÀâÂGsF ØëÊHéÈâÏäÃÂB</a:t>
            </a:r>
            <a:br>
              <a:rPr sz="66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AØáw éÄâ¾</a:t>
            </a:r>
            <a:br>
              <a:rPr sz="6600"/>
            </a:br>
            <a:br>
              <a:rPr sz="6000"/>
            </a:br>
            <a:br>
              <a:rPr sz="32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من از تو مى خواهم بحق آن رحم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چيز را فرا گرفت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0160" y="6361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âÊC¿áÆ Úá® áÑ ,áÀâÊC§åÃâs áÈâ«á® éÈâÏäÃÂB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سلطنت و پادشاهيت بس بزرگ 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قامت بسى بلند است</a:t>
            </a:r>
            <a:br>
              <a:rPr sz="4400"/>
            </a:br>
            <a:br>
              <a:rPr sz="56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94107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SáÃá² áÑ ,á½âoåÆF áoáÏáª áÑ ,á½âoå¿áÆ áØã·ág áÑ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ر و تدبيرت در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 پنهان و امر و </a:t>
            </a:r>
            <a:br>
              <a:rPr sz="46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مانت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شكار است</a:t>
            </a: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âÌã¿åÇâÖ Ù áÑ ,áÀâWánåkâº åVáoá_ áÑ ,á½âoåÏáº</a:t>
            </a:r>
            <a:br>
              <a:rPr sz="64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4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.áÀãXáÆÒâ¿âc åÌãÆ ânBáoã·ÂB</a:t>
            </a:r>
            <a:br>
              <a:rPr sz="60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هرت غالب و قدرت و نيرويت نافذ است و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يز از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ت حكومت تو ممكن نيست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áÑ ,æBoã¶C² ØãQÒâÊâmãÂ âkã_F Ù ÈâÏäÃÂBé</a:t>
            </a:r>
            <a:br>
              <a:rPr sz="6000"/>
            </a:br>
            <a:br>
              <a:rPr sz="2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BoãWCs ØãdãMCRá»ãÂ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br>
              <a:rPr sz="3600"/>
            </a:br>
            <a:br>
              <a:rPr sz="36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نيابم براى گناهانم آمرزنده اى و نه براى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ى زشتم پرده پوشى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ãÌátádÂCãQ ãe~~~~×ãRá»ÂB ØãÃáÇá® åÌãÆ èAØáxãÂ Ù áÑ</a:t>
            </a:r>
            <a:br>
              <a:rPr sz="6400"/>
            </a:br>
            <a:br>
              <a:rPr sz="25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á½áoå×á² æÙëkáRâÆ</a:t>
            </a:r>
            <a:br>
              <a:rPr sz="64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ه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عمل زشت مرا به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نيك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بديل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 جز تو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á½ãkåÇádãQ áÑ áÀáÊCdåRâs ,áYåÊF ÙH áÐÂH Ù</a:t>
            </a: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ست معبودى جز تو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زهى تو و به حمد تو مشغولم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ØãÃåÏá`ãQ âVFéoá`áW áÑ</a:t>
            </a:r>
            <a:r>
              <a:rPr b="1" lang="fa-IR" sz="72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Ø~~ãtå·áÊ âYåÇáÃáª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به خويشتن ستم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اثر نادانيم دليرى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 á½ãoå¾ãl ãÈÖãkáº ÔÂH âYåËá¿ás áÑ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éØáÃá® áÀëËáÆ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اينكه هميشه از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يم به ياد من بوده وبر من لطف و بخشش داشتى آسوده خاطر نشستم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WåoáXás èe×ãRáº åÌãÆ åÈá¾ ,áÕÙåÒáÆ éÈ~~~~~~~âÏäÃ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خدا اى مولاى من چه بسيار زشتيها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من پوشاندى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1760" y="7812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XåÃáºF ãAÚáRÂB áÌãÆ èbãjCá¶ åÌãÆ åÈá¾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fa-IR" sz="6000" spc="-1" strike="noStrike">
                <a:solidFill>
                  <a:srgbClr val="000000"/>
                </a:solidFill>
                <a:latin typeface="Karbala"/>
                <a:cs typeface="Arial"/>
              </a:rPr>
              <a:t>و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بسيار بلاهاى سنگين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بازگرداندى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836640"/>
            <a:ext cx="9906120" cy="629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áÑ ,AØáw éÄâ¾ CÏãQ áVåoáÏáº ØXéÂB áÀãWéÒâ»ãQ áÑ</a:t>
            </a:r>
            <a:br>
              <a:rPr sz="6400"/>
            </a:br>
            <a:br>
              <a:rPr sz="20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,AØáw êÄâ¾ CÏáÂ éÁál áÑ ,AØáw êÄâ¾ CÏáÂ á°á£ág</a:t>
            </a:r>
            <a:br>
              <a:rPr sz="5400"/>
            </a:br>
            <a:br>
              <a:rPr sz="5400"/>
            </a:br>
            <a:br>
              <a:rPr sz="1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نيرو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همه چيز را بوسيله آن مقهور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ي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چيز در برابر آن خاضع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در پيش آن خوار است</a:t>
            </a:r>
            <a:br>
              <a:rPr sz="4000"/>
            </a:b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1760" y="1212840"/>
            <a:ext cx="94107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âÐáXå¯á¶áj èÍÑâoå¿áÆ åÌãÆ åÈá¾ áÑ ,âÐáXå×áºáÑ ènCá\ã® åÌãÆ åÈá¾ áÑ</a:t>
            </a:r>
            <a:br>
              <a:rPr sz="55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ه بسيار لغزشها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آن نگهم داشتى و چه بسيار ناراحتيها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دور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252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800" spc="-1" strike="noStrike">
                <a:solidFill>
                  <a:srgbClr val="000099"/>
                </a:solidFill>
                <a:latin typeface="Karbala"/>
              </a:rPr>
              <a:t>â æÚåÎF âYåtáÂ èÄ×ãÇá_ èACËá[ åÌãÆ åÈá¾ áÑ </a:t>
            </a:r>
            <a:br>
              <a:rPr sz="58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800"/>
            </a:br>
            <a:r>
              <a:rPr b="1" lang="en-GB" sz="5800" spc="-1" strike="noStrike">
                <a:solidFill>
                  <a:srgbClr val="000099"/>
                </a:solidFill>
                <a:latin typeface="Karbala"/>
              </a:rPr>
              <a:t>.âÐáWåoáxáÊ ÐáÂ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ه بسيار مدح و ثناى خوبى 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ن شايسته اش نبودم و تو آن را منتشر ساختى</a:t>
            </a: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160" y="475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AÒâs åØãQ á¦áoå¶F áÑ ,ØãMÚáQ áÈâ«á® éÈâÏäÃÂB</a:t>
            </a:r>
            <a:br>
              <a:rPr sz="5400"/>
            </a:br>
            <a:br>
              <a:rPr sz="25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,ØãÂCc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لاى من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ى بزرگ است و </a:t>
            </a:r>
            <a:br>
              <a:rPr sz="41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ى حالم از حد گذشته</a:t>
            </a: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100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Váká¯áº áÑ ,ØãÂCáÇå®F åØãQ åVáoâ|áº áÑ </a:t>
            </a:r>
            <a:br>
              <a:rPr sz="6000"/>
            </a:br>
            <a:br>
              <a:rPr sz="29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Úå²F ØãQ 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8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عمالم نارسا است و زنجيرهاى </a:t>
            </a:r>
            <a:br>
              <a:rPr sz="45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يق مرا خانه نشين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0160" y="304920"/>
            <a:ext cx="941040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ØãÂCÆD âkå¯âQ Øã¯å·áÊ åÌá® ØãËátáRác áÑ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4500"/>
            </a:br>
            <a:r>
              <a:rPr b="0" lang="en-GB" sz="45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آرزوهاى دور و دراز مرا از </a:t>
            </a:r>
            <a:br>
              <a:rPr sz="45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سيدن به منافعم بازداشت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tå·áÊ áÑ ,CÎãnÑâoâ³ãQ C×åÊêkÂB åØãËåXá®ákág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ØãÂC§ãÆ áÑ ,CÏãXáÊC×ãhã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نيا با ظواهر فريبنده اش مرا گول زد و نفسم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وسيله جنايتش و به مسامحه گذراند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åÉF ,áÀãWéqã¯ãQ áÀâÃáNåsGá¶ ,Õãkë×~~~á~s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ÂCá¯ã¶ áÑ ØãÃáÇá® âAÒâs ØãMC®âj áÀåËá® áSâ`ådáÖ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پس از تو مى خواهم به عزت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ى رفتار و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ار م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يم را از اجابتت جلوگيرى نكند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¯áÃé¦B CÆ ëØã·áhãQ ØãËådá£å·áW Ù áÑ</a:t>
            </a:r>
            <a:br>
              <a:rPr sz="6000"/>
            </a:br>
            <a:r>
              <a:rPr b="0" lang="en-GB" sz="25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Õëoãs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ÌãÆ ãÐå×áÃá®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رسوا نكنى مرا به آنچه از اسرار پنهانى م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160200" y="0"/>
            <a:ext cx="9905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ÐâXåÃãÇá®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CÆ ÔáÃá® ãUáQÒâ»â¯ÂCãQ ØãËåÃã_Cá¯âW Ù áÑ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,ØãWáAC~~~~~sH áÑ ØãÃå¯ã¶ ãAÒâs åÌ~~~ã~Æ ,ØãWBÒáÃág Øã¶ </a:t>
            </a:r>
            <a:br>
              <a:rPr sz="60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تاب نكنى در عقوبتم براى رفتار بد و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ى بدى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خلوت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جام دادم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áÂCÏá_ áÑ Øã§Öãoå·áW ãÅBÑáj áÑ </a:t>
            </a:r>
            <a:br>
              <a:rPr sz="6000"/>
            </a:br>
            <a:r>
              <a:rPr b="1" lang="en-GB" sz="29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XáÃå·á²  áÑ ØãWBÒáÏ~~~á~w ãTáoå\á¾ áÑ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ff33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دامه دادنم به تقصير و نادانى و زيادى شهوت رانى و بى خبريم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èAØáw éÄâ¾ CÏãQ áYåRáÃá²  Ø~~ãXéÂB áÀãWÑâoáRá`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بروت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وسيله آن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ره گشت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هر چي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ÁBáÒåcÛB ëÄâ¾ Øã¶ ØãÂ áÀãWéqã¯ãQ éÈâÏäÃÂB ãÌâ¾ áÑ</a:t>
            </a:r>
            <a:br>
              <a:rPr sz="54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C¶Òâ§á® ãnÒâÆÛB ã°~~~×ãÇá_ Øã¶ éØáÃá® áÑ ,æC¶ÑâJán</a:t>
            </a:r>
            <a:br>
              <a:rPr sz="5400"/>
            </a:br>
            <a:br>
              <a:rPr sz="54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خدايا به عزتت سوگند 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تمام احوال نسبت به من مهربان باش و در تمام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ور بر من </a:t>
            </a:r>
            <a:br>
              <a:rPr sz="41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طوفت فرما</a:t>
            </a:r>
            <a:br>
              <a:rPr sz="4600"/>
            </a:b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¸~~åxá¾ âÐâÂGåsF á½âoå×á² ØãÂ åÌáÆ ØëQán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ÕãoåÆF Øã¶ áo~~~~~á«éËÂB áÑ ,Õëoâ¢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و اى پروردگار من جز تو </a:t>
            </a:r>
            <a:br>
              <a:rPr sz="4600"/>
            </a:b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سی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دارم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رفع گرفتارى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وجه در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م را از او درخواست آنم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Yå¯áRéWH æCÇå¿âc éØáÃá® áYåÖáoå_F áÕÙåÒáÆ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tå·áÊ ÓáÒáÎ ãÐ×ã¶</a:t>
            </a:r>
            <a:br>
              <a:rPr sz="6000"/>
            </a:br>
            <a:br>
              <a:rPr sz="6000"/>
            </a:br>
            <a:r>
              <a:rPr b="0" lang="fa-IR" sz="4200" spc="-1" strike="noStrike">
                <a:solidFill>
                  <a:srgbClr val="000000"/>
                </a:solidFill>
                <a:latin typeface="Karbala"/>
                <a:cs typeface="Arial"/>
              </a:rPr>
              <a:t>ا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خداى من و اى مولاى من تو بر من حكمى را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رر داش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اجراى آن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يرو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اى نفسم را آرد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åÌ~~~ãÆ ãÐ×ã¶ årãoáXåcF åÈáÂ áÑ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ÕêÑâk~~á~® ãÌ×ãÖåqáW</a:t>
            </a:r>
            <a:br>
              <a:rPr sz="6600"/>
            </a:br>
            <a:br>
              <a:rPr sz="6600"/>
            </a:br>
            <a:br>
              <a:rPr sz="54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ز فريبكارى دشمنم در اين باره نهراسيدم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Âál ÔáÃá® âÍáká¯~~~~åsF áÑ ÓáÒåÎF CÇãQ ØãÊéoá³á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AC£á»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و هم طبق دلخواه خويش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ولم زد و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ضا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قد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484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¤å¯áQ áÀãÂál åÌãÆ éØáÃá® Óáoá_ CÇãQ âVåpáÑC`áXá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½ãoãÆBáÑF á¤å¯áQ âYå·áÂCág áÑ ,á½ãjÑâkâc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 و در اثر همين ماجراى شو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 سرم آمد نسبت به پاره 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حدود و احكامت تجاوز آردم و در برخى از دستوراتت راه مخالفت را پيمود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áUé`âc Ù áÑ áÀãÂál ã°×ãÇá_ Øã¶ éØáÃá® âUé`âdÂB áÀáÃá¶ </a:t>
            </a:r>
            <a:br>
              <a:rPr sz="5600"/>
            </a:b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 ,á½âJC£áº ãÐ×ã¶ éØáÃá® Óáoá_ CÇ×ã¶ ØãÂ</a:t>
            </a:r>
            <a:br>
              <a:rPr sz="5600"/>
            </a:br>
            <a:br>
              <a:rPr sz="5400"/>
            </a:br>
            <a:br>
              <a:rPr sz="6000"/>
            </a:br>
            <a:br>
              <a:rPr sz="5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در تمام آنچه پيش آمده تو را ستايش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آنم و ا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ن از حكم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باره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 من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رى گشته و قضا و آزمايش تو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7812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½âJÚáQ áÑ áÀâÇå¿âc ØãËáÆáqåÂF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 بدان ملزم ساخته</a:t>
            </a:r>
            <a:r>
              <a:rPr b="0" lang="fa-IR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جت و برهانى ندارم</a:t>
            </a:r>
            <a:br>
              <a:rPr sz="4600"/>
            </a:br>
            <a:br>
              <a:rPr sz="60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Õão×ã|å»áW ákå¯áQ ØãÏÂH CÖ áÀâXå×áWF åkáº áÑ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CÆãjCáÊ æBnãmáXå¯âÆ ,Øãtå·áÊ ÔáÃá® Øã¶BáoåsH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ينك اى معبود من در حالى به درگاهت آمده ا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باره ا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اه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و بر خود زياده روى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وده</a:t>
            </a:r>
            <a:br>
              <a:rPr sz="4200"/>
            </a:br>
            <a:br>
              <a:rPr sz="4200"/>
            </a:br>
            <a:br>
              <a:rPr sz="6000"/>
            </a:br>
            <a:br>
              <a:rPr sz="5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Bëoã»âÆ ,æCRå×ãËâÆ ,æBoã·å³áXåtâÆ ,æÚ×ã»áXåtâÆ ,æBoãtá¿åËâÆ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ØëËãÆ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ÉCá¾ CéÇãÆ æBéoá·áÆ âkã_F Ù ,æC¶ãoáXå¯âÆ ,æCËã®åmâÆ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پشيمان و دل شكسته و پوزش جو و آمرزش طلب و بازگشت آنان و به گناه خويش اقرار و اذعان و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راف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رم و راه گريزى از آنچه</a:t>
            </a:r>
            <a:br>
              <a:rPr sz="6000"/>
            </a:br>
            <a:br>
              <a:rPr sz="5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çAØáw CÏáÂ âÅÒâ»áÖÙ ØãXéÂB áÀãWéqã¯ãQ áÑ</a:t>
            </a:r>
            <a:br>
              <a:rPr sz="6400"/>
            </a:br>
            <a:br>
              <a:rPr sz="64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عز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چيزى در برابرش نه ايست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1108080"/>
            <a:ext cx="9906120" cy="56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ÕãoåÆF Øã¶ ãÐå×áÂH âÐé_áÒáWF æC®áqå·áÆ Ù áÑ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من سر زده نيابم و پناهگاه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ان ر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ورم در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خويش ندارم</a:t>
            </a:r>
            <a:br>
              <a:rPr sz="66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¶ áÕCéÖH áÀãÂCágåjH áÑ ,Õãnåmâ® áÀãÂÒâRáº áoå×á²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.áÀãXáÇåcán åÌãÆ èUá¯ás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 اينك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عذرم بپذيرى و مرا در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اخناى رحمتت درآور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Õëoâ¢ áTékãw åÈácånB áÑ ,Õãnåmâ® åÄáRåºCá¶ éÈâÏäÃ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ºC[ãÑ ëkáw åÌãÆ ØãËé¿â¶ áÑ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ى خداى من عذرم بپذير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ر سخت پريشانيم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ح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از بند سخت گناهانم رهائيم ده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Uéºãn áÑ ,ØãÊákáQ á¸å¯á¢ åÈácånB ëPán C~á~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Çå«á® áUéºãj áÑ ,ÕãkåÃã_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 من بر ناتوان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نم و ن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پوست تنم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اريكى استخوانم رحم آ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ØãXá×ãQåoáW áÑ Õãoå¾ãl áÑ Øã»åÃág FákáQ åÌáÆ C~~Ö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غاز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به آفرينش من 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ياد من و بپرورش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90612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ÀãÆáoá¾ ãABkãXåQãÙ ØãËåRáÎ ,ØãXáÖãmå³áW áÑ Õëoã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Q á½ëoãQ ã¸ãÂCs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احسان و خوراك دادنم 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ن به همان بزرگوارى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 نخستت و سابقه احس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من داشتى مرا ببخ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0160" y="43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Qëmá¯âÆ á½BáoâWF ,ØëQán áÑ Õãkë×ás áÑ ØãÏÂH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بود من و اى آقاى من و اى پروردگارم آيا تو به راستى چنانى آه مرا ب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å×áÃá® ÓÒá§åÊB CÆákå¯ãQ áÑ ,á½ãk×ãcåÒáW ákå¯áQ á½ãnCáËãQ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4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عذاب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</a:t>
            </a:r>
            <a:r>
              <a:rPr b="1" lang="en-GB" sz="4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ز اينك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يگانگي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ØãÊCtãÂ ãÐãQ áaãÏáÂ áÑ ,áÀãXá¶ãoå¯áÆ åÌãÆ ØRåÃáº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قرار دارم و دلم به نور معرفتت آباد گشته و زبانم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ÀëRâc  åÌãÆ Õão×ãÇá¢ âÍáká»áXå®B áÑ ,á½ãoå¾ãl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ذ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تو گويا شد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هادم به دوستى تو پيوند شده و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éÄâ¾ åVÜáÆ Ø~~~~~~ãXéÂB áÀãXáÇá«á¯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عظمت و بزرگ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ه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¯ã¢Cg ,ØãMC®âj áÑ Øã¶BoãX®B ã¹åkã{ ákå¯á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áXé×ãQÒâQâoãÂ</a:t>
            </a:r>
            <a:br>
              <a:rPr sz="6000"/>
            </a:br>
            <a:br>
              <a:rPr sz="60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ز اعتراف صادقانه و دعاى خاضعانه ام به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م بنده پرورى و ربوبيت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Æ á°ë×á£âW åÉF åÌãÆ âÅáoå¾F áY~~å~ÊF ,áVCÏå×áÎ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Xå×éQán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بزرگوارتر از آ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نظر دور دارى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پروريده اى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,âÐ~~~á~XåÖáÑD ÌáÆ ájëoáxâW åÑF ,âÐáXå×áÊåjF åÌáÆ ákë¯áRâW åÑ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دور گردا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نزديك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âÐáXå×á·á¾ åÌáÆ ãAÚáRÂB ÔáÂH áÈëÃátâW åÑF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ÐáXåÇãcán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تسليم بلا و گرفتار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سرپرس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و به لطف پروريده اى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áÕÙåÒáÆ áÑ ØãÏÂH áÑ Õãkë×ás CÖ Õãoå¯ãw áYå×áÂáÑ</a:t>
            </a:r>
            <a:br>
              <a:rPr sz="5500"/>
            </a:br>
            <a:br>
              <a:rPr sz="2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 áÀãXáÇá«á¯ãÂ åVéo~~á~g èÍÒ~~â_âÑ ÔÃá® ánCéËÂB â¨ëÃátâWF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دانستم اى آقا و معبود و مولايم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يا چيره 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آتش دوزخ را ب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ره ه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براب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ظم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Yá»á§áÊ èÌ~â~tÂF Ô~~~á~Ãá® áÑ ,æTákã_C~~~~~á~s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Ñ ,æUácãjCÆ á½ãoå¿ãxâQ áÑ ,æUáºãjC{ á½ãk×ãcåÒáXã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سجده افتاده و بر زبان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صادقانه به يگانگيت گويا شده و سپاسگزارانه به شكرت ب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ده و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Ãá® áÑ ,æUá»ë»ádâÆ áÀãXé×ãÏÂIãQ åYá¶áoáXå®B èPåÒâÃâº ÔáÃá®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دل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روى يقين به خدائيت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راف آرده اند و بر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2520" y="-824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VánCá{ ÔéXác ,áÀãQ ãÈåÃã¯ÂB áÌãÆ åVáÒác áoãMCÇá¢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اد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و معرفتت آنها را فرا گرفته تا به ج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برابر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1760" y="6361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ÔáÂH åYá¯~~~á~s ábãnBáÒá_ ÔÃá® áÑ ,æUá¯ãwCg</a:t>
            </a:r>
            <a:br>
              <a:rPr sz="5400"/>
            </a:br>
            <a:r>
              <a:rPr b="1" lang="en-GB" sz="2100" spc="-1" strike="noStrike">
                <a:solidFill>
                  <a:srgbClr val="000099"/>
                </a:solidFill>
                <a:latin typeface="Karbala"/>
              </a:rPr>
              <a:t> å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VánC~~wF áÑ ,æUá¯ãMC¦ á½ãkêRá¯áW ãÉC¦åÑF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en-GB" sz="36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اشع گشته و بر اعضاء و جوارحى 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38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اقانه و با حال اقرار به گناه</a:t>
            </a:r>
            <a:br>
              <a:rPr sz="4600"/>
            </a:br>
            <a:br>
              <a:rPr sz="46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99"/>
                </a:solidFill>
                <a:latin typeface="Karbala"/>
              </a:rPr>
              <a:t>,æUáËã®åmâÆ á½ãnC·å³ãX~å~sCãQ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ياى آمرزش تو هستن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êÄâ¾ Úá® ÕãméÂB áÀãÊCá§åÃâtãQ áÑ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سلطنت و پادشاه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 هر چيز برترى گرفت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1760" y="-273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Ãå£á·ãQ CÊåoãRågâF Ù áÑ ,áÀãQ êÌé«ÂB Bmá¿Î CÆ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ÈåÖãoá¾ CÖ ,áÀåËá®</a:t>
            </a:r>
            <a:br>
              <a:rPr sz="6000"/>
            </a:br>
            <a:br>
              <a:rPr sz="6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نين گمانى به تو نيست 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فضل تو چنين خبرى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ما نرسيده اى خد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ي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åÌãÆ èÄ×ãÃáº åÌá® Øã·å¯á¢ âÈáÃå¯áW áYåÊF áÑ ëPán CÖ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CÏ×ã¶ Õãoå`áÖ CÆ áÑ ,CÏãWCQåÒâ»â® áÑ C×åÊêkÂB ãAÚáQ</a:t>
            </a: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 من و تو ناتوانى مرا در مقابل اند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بلاى دنيا و آيفرهاى ناچيز آن و ناملايما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عمولاً</a:t>
            </a:r>
            <a:br>
              <a:rPr sz="4600"/>
            </a:br>
            <a:br>
              <a:rPr sz="46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çAÚáQ áÀãÂl éÉF ÔÃá® ,CÏãÃåÎF ÔÃá® ãÍãnC¿áÇÂB áÌãÆ</a:t>
            </a:r>
            <a:br>
              <a:rPr sz="5400"/>
            </a:br>
            <a:br>
              <a:rPr sz="1300"/>
            </a:br>
            <a:r>
              <a:rPr b="1" lang="en-GB" sz="13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,âÐâWékâÆ ço×|áº ,âÍJC»áQ ço×ãtáÖ ,âÐâ\å¿áÆ çÄ×ãÃáº ,çÍÑâoå¿áÆ áÑ</a:t>
            </a:r>
            <a:br>
              <a:rPr sz="5400"/>
            </a:br>
            <a:br>
              <a:rPr sz="13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اهل آن مى رسد مى دانى در صور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 بلا و ناراحتى دوام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 است و دورانش اندك و مدت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اه است</a:t>
            </a:r>
            <a:br>
              <a:rPr sz="4600"/>
            </a:br>
            <a:br>
              <a:rPr sz="54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Ä×ãÃá_ áÑ ,ãTáoãgÝB ãAÚáRãÂ ØãÂCÇãXåcB á¸å×á¿á¶</a:t>
            </a:r>
            <a:br>
              <a:rPr sz="60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2000"/>
            </a:br>
            <a:r>
              <a:rPr b="1" lang="fa-IR" sz="2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âWékâÆ</a:t>
            </a:r>
            <a:r>
              <a:rPr b="1" lang="fa-IR" sz="2000" spc="-1" strike="noStrike">
                <a:solidFill>
                  <a:srgbClr val="000099"/>
                </a:solidFill>
                <a:latin typeface="Karbala"/>
                <a:ea typeface="Arial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§áW çAÚáQ áÒâÎ áÑ ,CÏ×ã¶ ãÍãnC¿áÇÂB ãÒâºâ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چگونه تاب تحمل بلاى آخرت و آن ناملايم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زرگ را در آنجا دارم در صورتى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ن بل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تش طولا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1152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® â¸é·áhâÖ ÙáÑ ,âÐâÆC»áÆ âÅÑâkáÖ áÑ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وامش هميشگى است و تخفيفى برا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252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áÀãRá£á² åÌá® ÙH âÉÒâ¿áÖ Ù âÐéÊÛ ,ãÐãÃåÎF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بتلايان به آن نيست زيرا آن بلا 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شم و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ÐáÂ âÅÒâ»áW Ù CÆ BmÎ áÑ ,áÀã§áhás áÑ áÀãÆC»ãXåÊB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,â¡ånÛB áÑ âVBÑCÇétÂB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تقام و غضب تو سرچشمه گرفته و آن هم </a:t>
            </a:r>
            <a:br>
              <a:rPr sz="38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ى است 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سمانها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زمین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ب تحمل آن را ندارند</a:t>
            </a:r>
            <a:br>
              <a:rPr sz="4600"/>
            </a:br>
            <a:br>
              <a:rPr sz="4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2228b"/>
                </a:solidFill>
                <a:latin typeface="Karbala"/>
              </a:rPr>
              <a:t>â</a:t>
            </a:r>
            <a:r>
              <a:rPr b="1" lang="en-GB" sz="6000" spc="-1" strike="noStrike">
                <a:solidFill>
                  <a:srgbClr val="22228b"/>
                </a:solidFill>
                <a:latin typeface="Karbala"/>
              </a:rPr>
              <a:t>¸×ã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¯é£ÂB á½âkåRá® CÊF áÑ ØãQ á¸å×á¿á¶ ,Õãkë×ás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Ì×ã¿áXåtâÇÂB ,âÌ×ã¿åtãÇÂB ,âo×ã»ádÂB âÄ×ãÂém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تا چه رسد به من بنده ناتو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ار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چي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ستمند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چاره</a:t>
            </a:r>
            <a:r>
              <a:rPr b="0" lang="en-GB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2520" y="-273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ë ,áÕÙåÒáÆ áÑ Õãkë×ás áÑ ØëQán áÑ ØãÏÂH CÖ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و پروردگار و آقا و مولاى م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1760" y="43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ÏåËãÆ CÇãÂ áÑ ,Òâ¿åwF áÀå×áÂH ãnÒâÆÛB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ÕÛ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¿åQFá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êaã¢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ميك از گرفتاريهايم به تو شكاي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و بر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ميك از آنها شيون و گريه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؟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ëÄâ¾ ãACËá¶ ák~~~~å¯áQ ØãºCRÂB áÀãÏå_áÒ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ذات پ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س از ناب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چي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قى اس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189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ãAÚáRÂB ãÁÒâ§ãÂ åÅF ,ãÐãWékãw áÑ ãPBmá¯ÂB ãÈ×ãÂÛ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ãÐãWékâÆ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ا براى عذاب دردناك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خت يا براى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لاى طولانى و مديد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áÑ ,áÀãMBkå®F á°áÆ ãVCQÒâ»â¯åÃãÂ ØãËáWåoé×á{ åÌãNáÃá¶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áYåºéoá¶ áÑ ,áÀãMÚáQ ãÄåÎF áÌå×áQ áÑ ØãËå×áQ  áYå¯áÇá_</a:t>
            </a: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30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گر بنا شود مرا بخاطر 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هايم در زمره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شمنانت اندازى و مرا با گرفتاران در بلا و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ذابت در يكجا گرد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ورى و جدايى اندازى</a:t>
            </a:r>
            <a:br>
              <a:rPr sz="4600"/>
            </a:br>
            <a:br>
              <a:rPr sz="4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0160" y="-2736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ØãËåRáÏá¶ ,áÀãMC×ãÂåÑF áÑ áÀãMCéRãcF áÌå×áQ áÑ ØãËå×á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âVåoáRá{ ,ØëQán áÑ áÕÙåÒáÆ áÑ Õãkë×ás áÑ ØãÏÂH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يان من 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ستانت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ير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ى معبود و آقا 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لا و پروردگارم من صبر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یی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ºBoã¶ ÔÃá® âoãRå{F á¸å×á¿á¶ ,áÀãQBámá® ÔÃá®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عذاب ت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ما چگونه بر دورى از تو طاقت آورم</a:t>
            </a:r>
            <a:br>
              <a:rPr sz="4200"/>
            </a:br>
            <a:r>
              <a:rPr b="0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0160" y="43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¿á¶ ,á½ãnCÊ ëoác ÔÃá® âVåoáRá{ ØãËåRáÎ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گير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ى معبود م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رارت آتشت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تحمل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اما چگون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53172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¾ åÅF ,áÀãXáÆBoá¾ ÔÂB ão~á~«éËÂB ãÌá® âoãRå{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½âÒå·á® ØãMC_án áÑ ãnCéËÂB Øã¶ âÌâ¿ås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شم پوشيدن از بزرگواريت را بر خود هموار ساز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در ميا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بمانم با اينكه اميد عفو تو را دا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ºãjC{ âÈãtåºâF ,áÕÙåÒáÆ áÑ Õãkë×ás CÖ áÀãWéqã¯ãRá¶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ÏãÃåÎF áÌå×áQ áÀå×áÂH éÌé`ã¢Û ,æC»ã¦CÊ ØãËáXå¾áoáW åÌãNáÂ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به عزتت سوگند اى آقا و مولاى من براس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وگند مى خور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گ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بانم را در آنجا باز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گذارى حتماً در ميان دوزخي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fBoâ{ áÀå×áÂH éÌá~~gâoå{Û áÑ ,áÌå×ãÃãÆÝB áaå×ã`á¢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يون را بسويت سر ده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چون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يون اشخاص آرزومند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137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AC~~~~~~á¿âQ áÀå×áÃá® éÌá×ã¿åQÛ áÑ ,áÌ×ãgãoå|áX~~~åtâÇ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ÌÖãkãºC·ÂB</a:t>
            </a:r>
            <a:br>
              <a:rPr sz="60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درگاهت فرياد برآرم و قطعاً مانند عزيز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مگشتگ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دورى تو گريه و زار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×ãËãÆåKâÇÂB éØãÂáÑ CÖ ,áYåËâ¾ áÌåÖF áÀéËáÖãjCÊâÛ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ا صداى بلند تو را مى خوانم و مى گويم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يى اى يار و نگهدار مؤ منان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5T12:49:33Z</dcterms:created>
  <dc:creator/>
  <dc:description/>
  <dc:language>en-US</dc:language>
  <cp:lastModifiedBy>Seyed Mohammad Kazem Motallebi</cp:lastModifiedBy>
  <dcterms:modified xsi:type="dcterms:W3CDTF">2008-02-04T08:27:31Z</dcterms:modified>
  <cp:revision>139</cp:revision>
  <dc:subject/>
  <dc:title>Dua e Kumail</dc:title>
</cp:coreProperties>
</file>